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D7D-1621-45C7-AB88-60095419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2FC-49D4-4A0B-9E62-A840BBA7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4BC-EADC-4BD9-8C42-2DA1CC64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EA8-EFEF-48AF-9EDD-787051BF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9E0-B57B-4C3E-84B5-10ECFEB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105-52E4-442C-B90C-EB074E88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1AF-6E0F-4A51-9D6C-41989882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D91-1B96-450F-B2E8-C3B7D4F7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B27-C0B5-4939-A1E0-C7EE156D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A67-6FB2-400A-A32A-2FCD418E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6C1-848E-4F85-A8EC-7F248CE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776-4087-4E0F-BEE0-F4C14680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0559-4BFE-41C0-8C66-62766553E0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71080" y="717480"/>
            <a:ext cx="10153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Dopolnitev uredbe o porabi sredstev EKP 14-20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ljučne dopoln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4600" y="1803240"/>
            <a:ext cx="9342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Celostne teritorialne nalo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Finančni instrumen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Uskladitev z uredbo CL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Nosilni posredniški org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Upravljalna preverjanja za ukrepe tehnične podpo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Sprejemanje Izvedbenega nač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Dru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Celostne teritorialne naložb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00280" y="181296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ZMOS pristojen za izvajanje mehanizma CT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ločene naloge Z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 za CTN sta MOP in M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redstva tehnične podpore ZMOS zagotovi organ upravlj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Zahteva, da ZMOS prilagodi ustanovitveni akt in stat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831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Finančni instrumen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8720" y="164160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sredniški organ za finančne instrumente MGRT; MOP in MzI sodelujoči ministrst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lnjenje sklada skladov ko so izpolnjeni pogoji za povračilo prispevka EU v državni proraču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stanovitev usmerjevalnega odbor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 katerim se PO posvetuje 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jučnih elementih F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vesticijski strategi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zvedbenem načr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zboru izvajalca sklada sklad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zvajan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rejemanje Izvedbenega načrt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18640" y="182232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mbe glede zapisa posveta, ki ga skliče organ upravljanja glede predloga izvedbenega nač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anje organa upravljanja o prerazporejanju pravic porabe v okviru sprejetega izvedbenega načrta s soglasjem predlagatelja finančnega načrta, brez da bi o spremembi morala odločati še Vlada 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Drugo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75880" y="172728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godba o sofinanciranju mora vsebovati vse določbe, ki jih organ upravljanja v navodilih določi kot bistv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Hvala za vašo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Služba Vlade Republike Slovenije za razvoj in evropsko kohezijsko politik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6:46:37Z</dcterms:created>
  <dc:creator>Domen Kovač</dc:creator>
  <dc:description/>
  <dc:language>en-US</dc:language>
  <cp:lastModifiedBy>Janika Gregorič Zečevič</cp:lastModifiedBy>
  <cp:lastPrinted>2016-05-18T08:06:51Z</cp:lastPrinted>
  <dcterms:modified xsi:type="dcterms:W3CDTF">2016-05-18T08:12:10Z</dcterms:modified>
  <cp:revision>68</cp:revision>
  <dc:subject/>
  <dc:title>Predstavitev Uredbe o porabi sredstev evropske kohezijske politike v Republiki Sloveniji v programskem obdobju 2014–2020 za cilj „naložbe za rast in delovna mesta“</dc:title>
</cp:coreProperties>
</file>